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D7B-CA17-41FF-8FF3-E4C61919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F5B-F36A-49A9-8E82-C033FD97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A5C-42A1-4FC8-9A8D-8047C7B2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B2B-031C-490A-AA82-0451B98B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7F57-BE7F-4877-8EBB-3ED6F0A1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670E-92C9-4B6C-BA33-05576BB0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7A8D-A03A-4D66-937A-59303FD7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8FD8-984D-4738-A996-17DB71A7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3B4B-17A4-4B04-8F29-37ABB5A1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4E0F-B37A-4441-9C14-088E3513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C2EE-0F1C-4B6D-A0E5-CE6AF2E3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D8D-583E-4202-A1CF-F30E1067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1EFF-41F2-4572-A1A1-5E9F96FE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B5B3-A7A8-4E17-8449-5DCFB8EF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F114-EFEE-4054-9221-B654C7A5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5127-DA29-4933-A6BE-7A1DFEAE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DA01-8FBD-47C7-B673-5E3A49A5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9CB-7D88-4691-9CEF-83BF1A13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07C-98EE-451C-BE97-0765C20A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575-82F1-4BA3-9E1C-57590D17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BB1-CE8E-49B9-821C-9394CB3E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1A7-3028-4028-9AC0-99A318CF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36A-A091-405E-9F42-68C78B21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67E-079B-4240-96D6-A39B6497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A24C-53F4-462E-A99A-898C7A6807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000240" y="571680"/>
            <a:ext cx="564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егодня на уро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6785-E831-4EA0-B885-531BFD30DB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71520" y="1928520"/>
            <a:ext cx="5600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29000" y="3571920"/>
            <a:ext cx="51436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643040" y="1600200"/>
            <a:ext cx="70437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patcollinscm.webs.com/globe2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74202s031.edusite.ru/images/risunok1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016.radikal.ru/0805/11/baa91c67ab38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ap-world.ru/geo-small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d:\Мои документы\Мои рисунки\risunok1.png"/>
          <p:cNvPicPr/>
          <p:nvPr/>
        </p:nvPicPr>
        <p:blipFill>
          <a:blip r:embed="rId2"/>
          <a:stretch/>
        </p:blipFill>
        <p:spPr>
          <a:xfrm>
            <a:off x="714240" y="2571840"/>
            <a:ext cx="642960" cy="633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d:\Мои документы\Мои рисунки\globe2.png"/>
          <p:cNvPicPr/>
          <p:nvPr/>
        </p:nvPicPr>
        <p:blipFill>
          <a:blip r:embed="rId3"/>
          <a:stretch/>
        </p:blipFill>
        <p:spPr>
          <a:xfrm>
            <a:off x="785880" y="1571760"/>
            <a:ext cx="617400" cy="78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User\Рабочий стол\картинки на школьныю тему\Рисунок2.png"/>
          <p:cNvPicPr/>
          <p:nvPr/>
        </p:nvPicPr>
        <p:blipFill>
          <a:blip r:embed="rId4"/>
          <a:stretch/>
        </p:blipFill>
        <p:spPr>
          <a:xfrm>
            <a:off x="642960" y="3429000"/>
            <a:ext cx="806400" cy="857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428760" y="464328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ографическая ка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5:55:29Z</dcterms:created>
  <dc:creator>Comp</dc:creator>
  <dc:description/>
  <dc:language>en-US</dc:language>
  <cp:lastModifiedBy>Comp</cp:lastModifiedBy>
  <dcterms:modified xsi:type="dcterms:W3CDTF">2011-07-31T16:42:02Z</dcterms:modified>
  <cp:revision>8</cp:revision>
  <dc:subject/>
  <dc:title>Слайд 1</dc:title>
</cp:coreProperties>
</file>